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394-8202-4F58-9742-F28E5C14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7F8-F233-4C98-8EDD-A6F06F3A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31F-3BF3-4F8E-82BD-08131FC9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3CE-F9E4-4A17-807B-626EE88B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2D2E-EB58-41E0-8DA1-16323913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B5DD-EC9E-4916-BCC4-78C19433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9585-938A-4A19-AE5F-B710BD1E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63E3-22A7-4B32-BDAF-B0D5574D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4C63-384F-4C99-850C-FDD67B61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0475-86C1-4DC6-A3BD-7B616D1F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F954-39A6-476E-B67C-B05B30DF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ADD-8CB0-402A-97CB-D78B5D76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49D4-239D-460E-9F04-ECEEC130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C863-742A-49F5-94A8-236F1BD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5EBC-A3A9-455B-882F-ED5048C1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2083-16BB-484C-8E88-3F10BF9F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0376-6577-4F44-B73A-3564D867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38F-5737-4069-AA5B-6C0F7E1E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4D8-8A6D-4256-85D7-03709306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C84-26B8-4238-A1AA-AE90FC4E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08D-6438-47FF-8186-16B2199B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10E-45F3-4179-9DE4-F9DF791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689-5763-4BC5-A8EB-99C3742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BD5-D991-4267-8F36-F5855FE0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9C04-93AB-49FB-A186-674798FCE16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9A04-B14B-44C6-912B-6C8F3269E13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ject/Verb Agre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Wellman-High Ho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acket that I bought with two pairs of pants ____ a bar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w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: 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vs. Or &amp; N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s two or more nouns (pronouns) connected b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PLURAL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Mo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her friends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the fa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s two or more singular nouns connected b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/ n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SINGULAR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b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p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dra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vs. Or &amp; Nor (con’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 contains both singular and plural noun (pronoun) connected b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/ n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VERB AGREES WITH NOUN NEARER TO 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s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friends r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friend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boy r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e cream and yogurt ______ equally delicio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: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 and Toby, my dogs, ______ tug-of-war with each o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yer or his secretary ______ the pho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ans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the teacher nor the students ____ to work hard to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w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u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2 sentences connecting the nouns with both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ing “or / nor,” be mindful if your subject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ingul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 and 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is / There 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entences beginning with “there is” or “there are,” the subject follows the ver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lang="en-US" sz="3200" spc="-1" strike="noStrike">
                <a:solidFill>
                  <a:srgbClr val="ec041a"/>
                </a:solidFill>
                <a:latin typeface="Arial"/>
              </a:rPr>
              <a:t>ques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(plu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</a:t>
            </a:r>
            <a:r>
              <a:rPr b="0" lang="en-US" sz="3200" spc="-1" strike="noStrike">
                <a:solidFill>
                  <a:srgbClr val="ec041a"/>
                </a:solidFill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(singul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you name som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680" y="1828800"/>
            <a:ext cx="392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e /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ular subject needs singular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Mandy j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joy at the g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ral subjects needs plural 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Mand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ec041a"/>
                </a:solidFill>
                <a:latin typeface="Arial"/>
              </a:rPr>
              <a:t>Jim jum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joy at the g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34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you name some that are singular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lura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20955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 or plural depends on what the indefinite pronoun refers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the people clap their h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the newspaper is soa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_____ until the teacher gives permiss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le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body at the games ______ a gift certific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rece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______ outside the ho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 lu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lu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: was lu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 students ______ to bring $10 by Fri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of the students ______ to bring $10 by Fri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oney ______ missing from the sa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cookies ______ missing from the j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noun-Antece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anteced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noun usually refers to another noun or pronoun, which is called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tece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is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rove the car all the way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ndma’s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ce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41911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000640" y="419112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3733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noun-Antece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oun needs to agree i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umber, gender, and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its antece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1: He won the awar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ok of po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2: The students hav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ok b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s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mb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ular pronoun = singular antece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l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go to the store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rite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pronoun and antece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ral pronoun = plural antece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go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rite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pronoun and antece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a took _____ dogs for a long w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6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pronoun that agrees with the anteced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d was out of breath when ____ rushed into the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6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pronoun that agrees with the anteced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hool closed _____ doors for winter bre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6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the pronoun that agrees with the anteced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457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340200" indent="-264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, Second, and Third Per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2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pronoun that agrees with its antece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0200" indent="-264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Person 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2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dopted ____ cat from the animal shel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0200" indent="-264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erson 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2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you paint this landscape _______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0200" indent="-264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Person 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2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uilt ____ own home in the Black H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ly and Tommy need to make _____ b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ru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&amp;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ly needs to finish _____ laundry before she can join 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ru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&amp; 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veball: Indefinite Pronou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will go to the store with _____ m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/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rule - si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the players have to work on _____ ball-handling sk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rule - 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knew the answer to the question on _____ ex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/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rule - si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them are in _____ sea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&amp; Person - 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finite Pronoun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prono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 schools will start _____ Christmas break on Wednes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- 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s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urn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3 sentences, one for each indefinite pronou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 or pl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m trees _____ little sh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g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g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lm tree _____ little sh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g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g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be fooled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words that come between the subject and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nners on our track team _____ a trophy every yea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w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: 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issing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ions, waiting in front of their trainer,  _____ his comman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ob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ob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:  ob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9:33:33Z</dcterms:created>
  <dc:creator>Don Dalton</dc:creator>
  <dc:description/>
  <dc:language>en-US</dc:language>
  <cp:lastModifiedBy>Don Dalton</cp:lastModifiedBy>
  <dcterms:modified xsi:type="dcterms:W3CDTF">2012-02-07T14:40:56Z</dcterms:modified>
  <cp:revision>54</cp:revision>
  <dc:subject/>
  <dc:title>Subject/Verb Agreement</dc:title>
</cp:coreProperties>
</file>